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afraidschool.wav" ContentType="audio/x-wav"/>
  <Override PartName="/ppt/media/image6.gif" ContentType="image/gif"/>
  <Override PartName="/ppt/media/bubbles..wav" ContentType="audio/x-wav"/>
  <Override PartName="/ppt/media/image5.gif" ContentType="image/gif"/>
  <Override PartName="/ppt/media/image4.png" ContentType="image/png"/>
  <Override PartName="/ppt/media/shock.wav" ContentType="audio/x-wav"/>
  <Override PartName="/ppt/media/image10.gif" ContentType="image/gif"/>
  <Override PartName="/ppt/media/image12.jpeg" ContentType="image/jpeg"/>
  <Override PartName="/ppt/media/windy.wav" ContentType="audio/x-wav"/>
  <Override PartName="/ppt/media/image3.gif" ContentType="image/gif"/>
  <Override PartName="/ppt/media/whistle.wav" ContentType="audio/x-wav"/>
  <Override PartName="/ppt/media/image13.gif" ContentType="image/gif"/>
  <Override PartName="/ppt/media/image11.gif" ContentType="image/gif"/>
  <Override PartName="/ppt/media/da-wa.wav" ContentType="audio/x-wav"/>
  <Override PartName="/ppt/media/explode.wav" ContentType="audio/x-wav"/>
  <Override PartName="/ppt/media/image9.gif" ContentType="image/gif"/>
  <Override PartName="/ppt/media/image8.gif" ContentType="image/gif"/>
  <Override PartName="/ppt/media/goingmad.wav" ContentType="audio/x-wav"/>
  <Override PartName="/ppt/media/wackysound.wav" ContentType="audio/x-wav"/>
  <Override PartName="/ppt/media/gargle.wav" ContentType="audio/x-wav"/>
  <Override PartName="/ppt/media/image2.png" ContentType="image/png"/>
  <Override PartName="/ppt/media/image1.png" ContentType="image/png"/>
  <Override PartName="/ppt/media/bettyb~1.wav" ContentType="audio/x-wav"/>
  <Override PartName="/ppt/media/checkthisout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8A5-EEAA-462C-B9C0-11F7F9D1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AA0-6DEE-4973-9AF7-CCFDAEB7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47A-B82D-4E34-943E-4DD5BA48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66C-4D0A-4006-8961-9C2B983B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AE3-D69B-4287-ACE7-2AF55670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BAF-86E3-4ACB-A3BF-F1350F49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9AC-9649-41C2-94F8-2DA47ABC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26C-5468-47DC-9961-7B788EDD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81F-8C5D-4904-B7F2-2EA6E663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824-A7F3-4566-8473-5AB71F61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BBD4-44FC-4476-81A0-C771BD33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154-B4EE-48FF-95F4-E22B2336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0877-0AF6-4387-BCAC-F91B99A79E5B}" type="slidenum"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bettyb~1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da-w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goingmad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fraidschoo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whistle.wav"/><Relationship Id="rId3" Type="http://schemas.openxmlformats.org/officeDocument/2006/relationships/audio" Target="../media/windy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sho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bubbles.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eckthisou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gargl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wackysou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e Three States of Matt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2" name="Picture 4" descr="knowledge"/>
          <p:cNvPicPr/>
          <p:nvPr/>
        </p:nvPicPr>
        <p:blipFill>
          <a:blip r:embed="rId1"/>
          <a:stretch/>
        </p:blipFill>
        <p:spPr>
          <a:xfrm>
            <a:off x="2895480" y="1752480"/>
            <a:ext cx="33800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oli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 a fixed shap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 a fixed volum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articles are arranged in a tight, regular pattern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articles move very littl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65" name="Picture 2" descr="ani-book"/>
          <p:cNvPicPr/>
          <p:nvPr/>
        </p:nvPicPr>
        <p:blipFill>
          <a:blip r:embed="rId1"/>
          <a:stretch/>
        </p:blipFill>
        <p:spPr>
          <a:xfrm>
            <a:off x="5791320" y="762120"/>
            <a:ext cx="2171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ttyb~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s of Solids ar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Ic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ro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hees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icks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ood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opcicl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68" name="Picture 2" descr="frogwb"/>
          <p:cNvPicPr/>
          <p:nvPr/>
        </p:nvPicPr>
        <p:blipFill>
          <a:blip r:embed="rId1"/>
          <a:stretch/>
        </p:blipFill>
        <p:spPr>
          <a:xfrm>
            <a:off x="4572000" y="2286000"/>
            <a:ext cx="3780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-w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437200" y="304920"/>
            <a:ext cx="358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Check out the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Following 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Site on Solids :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70" name="Picture 2" descr="cow"/>
          <p:cNvPicPr/>
          <p:nvPr/>
        </p:nvPicPr>
        <p:blipFill>
          <a:blip r:embed="rId1"/>
          <a:stretch/>
        </p:blipFill>
        <p:spPr>
          <a:xfrm>
            <a:off x="2286000" y="3124080"/>
            <a:ext cx="40496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oingma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448640" y="1295280"/>
            <a:ext cx="585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Watch this Brainpop</a:t>
            </a:r>
            <a:endParaRPr b="0" lang="en-US" sz="5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Movie on the</a:t>
            </a:r>
            <a:endParaRPr b="0" lang="en-US" sz="54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States of Matter :</a:t>
            </a:r>
            <a:endParaRPr b="0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72" name="Picture 3" descr="volcanoe"/>
          <p:cNvPicPr/>
          <p:nvPr/>
        </p:nvPicPr>
        <p:blipFill>
          <a:blip r:embed="rId1"/>
          <a:stretch/>
        </p:blipFill>
        <p:spPr>
          <a:xfrm>
            <a:off x="1905120" y="4114800"/>
            <a:ext cx="40003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Writing Activit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he students will describe the three states of matter and include the following :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t least one example of each stat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 description of each stat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75" name="Picture 2" descr="happiness"/>
          <p:cNvPicPr/>
          <p:nvPr/>
        </p:nvPicPr>
        <p:blipFill>
          <a:blip r:embed="rId1"/>
          <a:stretch/>
        </p:blipFill>
        <p:spPr>
          <a:xfrm>
            <a:off x="3657600" y="4419720"/>
            <a:ext cx="176832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State Objectives :</a:t>
            </a:r>
            <a:endParaRPr b="0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atter: Properties/Identify/Small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The learner will be able to identify that matter has predictable properties and is composed of particles to small too be seen with the naked eye.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tates of Matter: Conditions/Identify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The learner will be able to identify states of matter.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33520" y="91440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Following the presentation, the students will write a paragraph about the three states of matter (solid, liquid, and gas).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6" name="Picture 3" descr="desk7"/>
          <p:cNvPicPr/>
          <p:nvPr/>
        </p:nvPicPr>
        <p:blipFill>
          <a:blip r:embed="rId1"/>
          <a:stretch/>
        </p:blipFill>
        <p:spPr>
          <a:xfrm>
            <a:off x="2590920" y="2971800"/>
            <a:ext cx="35100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fraidschoo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a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 no fixed shap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 no fixed volum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ade of particles that move rapidly 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he particles also have large spaces  between them in comparison to solids and liquids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9" name="Picture 4" descr="stormy"/>
          <p:cNvPicPr/>
          <p:nvPr/>
        </p:nvPicPr>
        <p:blipFill>
          <a:blip r:embed="rId1"/>
          <a:stretch/>
        </p:blipFill>
        <p:spPr>
          <a:xfrm>
            <a:off x="5562720" y="914400"/>
            <a:ext cx="269712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is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s of Gases are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eam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arbon dioxid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mo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ear Gas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elium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2" name="Picture 5" descr="windycloud"/>
          <p:cNvPicPr/>
          <p:nvPr/>
        </p:nvPicPr>
        <p:blipFill>
          <a:blip r:embed="rId1"/>
          <a:stretch/>
        </p:blipFill>
        <p:spPr>
          <a:xfrm>
            <a:off x="3733920" y="2262240"/>
            <a:ext cx="4537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h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beaker_lg_wht"/>
          <p:cNvPicPr/>
          <p:nvPr/>
        </p:nvPicPr>
        <p:blipFill>
          <a:blip r:embed="rId1"/>
          <a:stretch/>
        </p:blipFill>
        <p:spPr>
          <a:xfrm>
            <a:off x="2819520" y="2895480"/>
            <a:ext cx="2666880" cy="3657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2209680" y="304920"/>
            <a:ext cx="4562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Check out the Following Site on Gas :</a:t>
            </a:r>
            <a:endParaRPr b="0" lang="en-US" sz="5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bbles.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iqui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 no fixed shap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 a fixed volum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articles move past one another easily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articles are fairly close, but not in a neat even arrangement as the particles in a solid ar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57" name="Picture 4" descr="fishmiscp"/>
          <p:cNvPicPr/>
          <p:nvPr/>
        </p:nvPicPr>
        <p:blipFill>
          <a:blip r:embed="rId1"/>
          <a:stretch/>
        </p:blipFill>
        <p:spPr>
          <a:xfrm>
            <a:off x="5638680" y="609480"/>
            <a:ext cx="25797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ckthiso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Examples of Liquids ar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range Juice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oft drinks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ilk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Rubbing Alcoho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Vinegar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60" name="Picture 4" descr="magicpotion"/>
          <p:cNvPicPr/>
          <p:nvPr/>
        </p:nvPicPr>
        <p:blipFill>
          <a:blip r:embed="rId1"/>
          <a:stretch/>
        </p:blipFill>
        <p:spPr>
          <a:xfrm>
            <a:off x="4191120" y="2057400"/>
            <a:ext cx="38098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arg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441520" y="304920"/>
            <a:ext cx="4227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Check out the </a:t>
            </a:r>
            <a:endParaRPr b="0" lang="en-US" sz="4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following </a:t>
            </a:r>
            <a:endParaRPr b="0" lang="en-US" sz="48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Site on Liquids :</a:t>
            </a:r>
            <a:endParaRPr b="0" lang="en-US" sz="48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62" name="Picture 3" descr="watercycle-ani"/>
          <p:cNvPicPr/>
          <p:nvPr/>
        </p:nvPicPr>
        <p:blipFill>
          <a:blip r:embed="rId1"/>
          <a:stretch/>
        </p:blipFill>
        <p:spPr>
          <a:xfrm>
            <a:off x="2666880" y="3352680"/>
            <a:ext cx="36799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cky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5:24:26Z</dcterms:created>
  <dc:creator>Jefferson County Schools</dc:creator>
  <dc:description/>
  <dc:language>en-US</dc:language>
  <cp:lastModifiedBy>Student123</cp:lastModifiedBy>
  <dcterms:modified xsi:type="dcterms:W3CDTF">2012-11-14T14:38:49Z</dcterms:modified>
  <cp:revision>44</cp:revision>
  <dc:subject/>
  <dc:title>The Three States of Matter</dc:title>
</cp:coreProperties>
</file>